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3E6-E9F8-4EEE-8EF5-055170CA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15C-A3CC-43E1-8738-3D58C132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10D-0886-45B1-86DC-AD53A2EC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C95-C26F-40C5-AB9E-58780CC5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D62-14DC-4251-8A90-0207A480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040-17DB-4ABE-B04A-1382493D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045-A77B-47E5-BF3B-12C29B4C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2D7-CEFB-4DF7-8229-C31469C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BEA-0560-4FA8-82F0-CB7E098A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3A5-0882-4CE8-8C7E-99F8EDDB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790-72A3-4CDB-859E-330623A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100-0895-4D9A-A02A-998302A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885-5FAF-4E87-8A4D-9E72F206F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11.1.jpg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11.2.jpg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11.3.jpg"/>
          <p:cNvPicPr/>
          <p:nvPr/>
        </p:nvPicPr>
        <p:blipFill>
          <a:blip r:embed="rId1"/>
          <a:stretch/>
        </p:blipFill>
        <p:spPr>
          <a:xfrm>
            <a:off x="217440" y="0"/>
            <a:ext cx="870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11.4.jpg"/>
          <p:cNvPicPr/>
          <p:nvPr/>
        </p:nvPicPr>
        <p:blipFill>
          <a:blip r:embed="rId1"/>
          <a:stretch/>
        </p:blipFill>
        <p:spPr>
          <a:xfrm>
            <a:off x="122400" y="0"/>
            <a:ext cx="88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11.5.jpg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Figure 11.1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31:12Z</dcterms:created>
  <dc:creator>conversion</dc:creator>
  <dc:description/>
  <dc:language>en-US</dc:language>
  <cp:lastModifiedBy>conversion</cp:lastModifiedBy>
  <dcterms:modified xsi:type="dcterms:W3CDTF">2015-01-14T09:32:12Z</dcterms:modified>
  <cp:revision>1</cp:revision>
  <dc:subject/>
  <dc:title>Slide 1</dc:title>
</cp:coreProperties>
</file>